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637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9F89-D259-4C70-B2F1-8EC0A7A4D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7A46-A36D-494F-B413-97851A36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F493-9403-461F-8E36-F38B19BCF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1D76-B712-4007-BFFB-03EA72A2C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7336-A6BD-46EB-B900-B71CEAAB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D16F-E5A8-45E0-857A-034D9019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AFC5-50F0-4025-A0FF-E67646DB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E247-84F0-4930-84AE-37C3E5B2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277B-AF46-4D63-9A36-E1BA824A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9C6A-14DA-48B8-9EC1-62309201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C69D-B512-41CC-9629-5D6F57B8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4DDA-A428-4CEF-A0BD-6E608870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5CA0-6A43-42C6-BD03-24E0EA01650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47ff">
                  <a:alpha val="60392"/>
                </a:srgbClr>
              </a:gs>
              <a:gs pos="100000">
                <a:srgbClr val="000082">
                  <a:alpha val="60392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71280" y="189000"/>
            <a:ext cx="907272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Arial"/>
              </a:rPr>
              <a:t>CONJUNTO HOSPITALA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Arial"/>
              </a:rPr>
              <a:t>DO MANDAQUI (CHM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4" descr=""/>
          <p:cNvPicPr/>
          <p:nvPr/>
        </p:nvPicPr>
        <p:blipFill>
          <a:blip r:embed="rId1"/>
          <a:stretch/>
        </p:blipFill>
        <p:spPr>
          <a:xfrm>
            <a:off x="8028000" y="189000"/>
            <a:ext cx="900000" cy="1152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3" descr="brasao4"/>
          <p:cNvPicPr/>
          <p:nvPr/>
        </p:nvPicPr>
        <p:blipFill>
          <a:blip r:embed="rId2"/>
          <a:stretch/>
        </p:blipFill>
        <p:spPr>
          <a:xfrm>
            <a:off x="216000" y="185760"/>
            <a:ext cx="900000" cy="11556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7"/>
          <p:cNvSpPr/>
          <p:nvPr/>
        </p:nvSpPr>
        <p:spPr>
          <a:xfrm>
            <a:off x="179280" y="2449800"/>
            <a:ext cx="87854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Arial"/>
              </a:rPr>
              <a:t>A SAÚDE COMO DIREITO DO SER HUMANO: DESAFIOS ENFRENTADO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Arial"/>
              </a:rPr>
              <a:t>PELOS PROFISSIONAIS DE SAÚDE EM DEFERENTES REALIDADE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47ff">
                  <a:alpha val="60392"/>
                </a:srgbClr>
              </a:gs>
              <a:gs pos="100000">
                <a:srgbClr val="000082">
                  <a:alpha val="60392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0" y="1557000"/>
            <a:ext cx="9144000" cy="52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www.hospitalmandaqui.com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Diretoria Técnica: Drª. Magali Vicente Proen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mvproenca@saude.sp.gov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Gerência de Informação: Profº. Drº. Sérgio Maka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chm-informacao@saude.sp.gov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Escritório da Qualidade e Humanização: Enfª. Vera Lúcia Patrez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chm-equalidade@saude.sp.gov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Rua Voluntários da Pátria, 4.301 – CEP. 02401-4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Mandaqui – São Paulo – SP – Tel.: 2281-5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71280" y="81000"/>
            <a:ext cx="907272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REPÚBLICA FEDERATIVA DO BRASI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SECRETARIA DE ESTADO DE SAÚDE DA CIDADE DE SÃO PAU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COORDENADORIA DE SERVIÇO DE SAÚ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CONJUNTO HOSPITALAR DO MANDAQ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3" descr=""/>
          <p:cNvPicPr/>
          <p:nvPr/>
        </p:nvPicPr>
        <p:blipFill>
          <a:blip r:embed="rId1"/>
          <a:stretch/>
        </p:blipFill>
        <p:spPr>
          <a:xfrm>
            <a:off x="8317080" y="189000"/>
            <a:ext cx="618840" cy="792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3" descr="brasao4"/>
          <p:cNvPicPr/>
          <p:nvPr/>
        </p:nvPicPr>
        <p:blipFill>
          <a:blip r:embed="rId2"/>
          <a:stretch/>
        </p:blipFill>
        <p:spPr>
          <a:xfrm>
            <a:off x="216000" y="185760"/>
            <a:ext cx="90000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47ff">
                  <a:alpha val="60392"/>
                </a:srgbClr>
              </a:gs>
              <a:gs pos="100000">
                <a:srgbClr val="000082">
                  <a:alpha val="60392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3" descr="brasao4"/>
          <p:cNvPicPr/>
          <p:nvPr/>
        </p:nvPicPr>
        <p:blipFill>
          <a:blip r:embed="rId1"/>
          <a:stretch/>
        </p:blipFill>
        <p:spPr>
          <a:xfrm>
            <a:off x="216000" y="185760"/>
            <a:ext cx="900000" cy="1155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0" y="2996640"/>
            <a:ext cx="91440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600" spc="-1" strike="noStrike">
                <a:solidFill>
                  <a:srgbClr val="000000"/>
                </a:solidFill>
                <a:latin typeface="Arial Narrow"/>
              </a:rPr>
              <a:t>OBRIGADA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71280" y="81000"/>
            <a:ext cx="907272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REPÚBLICA FEDERATIVA DO BRASI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SECRETARIA DE ESTADO DE SAÚDE DA CIDADE DE SÃO PAU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COORDENADORIA DE SERVIÇO DE SAÚ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CONJUNTO HOSPITALAR DO MANDAQ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7" descr=""/>
          <p:cNvPicPr/>
          <p:nvPr/>
        </p:nvPicPr>
        <p:blipFill>
          <a:blip r:embed="rId2"/>
          <a:stretch/>
        </p:blipFill>
        <p:spPr>
          <a:xfrm>
            <a:off x="8317080" y="189000"/>
            <a:ext cx="618840" cy="792000"/>
          </a:xfrm>
          <a:prstGeom prst="rect">
            <a:avLst/>
          </a:prstGeom>
          <a:ln w="0">
            <a:noFill/>
          </a:ln>
        </p:spPr>
      </p:pic>
      <p:sp>
        <p:nvSpPr>
          <p:cNvPr id="96" name="Retângulo 8"/>
          <p:cNvSpPr/>
          <p:nvPr/>
        </p:nvSpPr>
        <p:spPr>
          <a:xfrm>
            <a:off x="3177000" y="5748480"/>
            <a:ext cx="3506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Enfª. Vera Lúcia Patrez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47ff">
                  <a:alpha val="60392"/>
                </a:srgbClr>
              </a:gs>
              <a:gs pos="100000">
                <a:srgbClr val="000082">
                  <a:alpha val="60392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33" descr="brasao4"/>
          <p:cNvPicPr/>
          <p:nvPr/>
        </p:nvPicPr>
        <p:blipFill>
          <a:blip r:embed="rId1"/>
          <a:stretch/>
        </p:blipFill>
        <p:spPr>
          <a:xfrm>
            <a:off x="216000" y="185760"/>
            <a:ext cx="900000" cy="11556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71280" y="81000"/>
            <a:ext cx="907272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REPÚBLICA FEDERATIVA DO BRASI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SECRETARIA DE ESTADO DE SAÚDE DA CIDADE DE SÃO PAU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COORDENADORIA DE SERVIÇO DE SAÚ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CONJUNTO HOSPITALAR DO MANDAQ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8317080" y="189000"/>
            <a:ext cx="618840" cy="792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"/>
          <p:cNvPicPr/>
          <p:nvPr/>
        </p:nvPicPr>
        <p:blipFill>
          <a:blip r:embed="rId3"/>
          <a:stretch/>
        </p:blipFill>
        <p:spPr>
          <a:xfrm>
            <a:off x="826920" y="1454040"/>
            <a:ext cx="763272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47ff">
                  <a:alpha val="60392"/>
                </a:srgbClr>
              </a:gs>
              <a:gs pos="100000">
                <a:srgbClr val="000082">
                  <a:alpha val="60392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71280" y="189000"/>
            <a:ext cx="907272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Arial"/>
              </a:rPr>
              <a:t>CONJUNTO HOSPITALA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Arial"/>
              </a:rPr>
              <a:t>DO MANDAQU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8028000" y="189000"/>
            <a:ext cx="900000" cy="1152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3" descr="brasao4"/>
          <p:cNvPicPr/>
          <p:nvPr/>
        </p:nvPicPr>
        <p:blipFill>
          <a:blip r:embed="rId2"/>
          <a:stretch/>
        </p:blipFill>
        <p:spPr>
          <a:xfrm>
            <a:off x="216000" y="185760"/>
            <a:ext cx="900000" cy="1155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"/>
          <p:cNvPicPr/>
          <p:nvPr/>
        </p:nvPicPr>
        <p:blipFill>
          <a:blip r:embed="rId3"/>
          <a:stretch/>
        </p:blipFill>
        <p:spPr>
          <a:xfrm>
            <a:off x="826920" y="1486080"/>
            <a:ext cx="763128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47ff">
                  <a:alpha val="60392"/>
                </a:srgbClr>
              </a:gs>
              <a:gs pos="100000">
                <a:srgbClr val="000082">
                  <a:alpha val="60392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8"/>
          <p:cNvSpPr/>
          <p:nvPr/>
        </p:nvSpPr>
        <p:spPr>
          <a:xfrm>
            <a:off x="71280" y="81000"/>
            <a:ext cx="907272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REPÚBLICA FEDERATIVA DO BRASI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SECRETARIA DE ESTADO DE SAÚDE DA CIDADE DE SÃO PAU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COORDENADORIA DE SERVIÇO DE SAÚ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CONJUNTO HOSPITALAR DO MANDAQ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0" descr=""/>
          <p:cNvPicPr/>
          <p:nvPr/>
        </p:nvPicPr>
        <p:blipFill>
          <a:blip r:embed="rId1"/>
          <a:stretch/>
        </p:blipFill>
        <p:spPr>
          <a:xfrm>
            <a:off x="8317080" y="189000"/>
            <a:ext cx="618840" cy="792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6"/>
          <p:cNvSpPr/>
          <p:nvPr/>
        </p:nvSpPr>
        <p:spPr>
          <a:xfrm>
            <a:off x="179280" y="1187640"/>
            <a:ext cx="896472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 Narrow"/>
              </a:rPr>
              <a:t>O HOS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Hospital Estadual Geral de Administração Direta e campo de ensi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Referência para Trauma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Região Norte da cidade de São Paulo – aproximadamente 2 milhões de habita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Total de leitos: 44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Internações: 1500 ao mê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Total de funcionários: 260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Diretor Técnico de Departamento de Saúde: Dra  Magali Vicente Proenç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33" descr="brasao4"/>
          <p:cNvPicPr/>
          <p:nvPr/>
        </p:nvPicPr>
        <p:blipFill>
          <a:blip r:embed="rId2"/>
          <a:stretch/>
        </p:blipFill>
        <p:spPr>
          <a:xfrm>
            <a:off x="216000" y="185760"/>
            <a:ext cx="90000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47ff">
                  <a:alpha val="60392"/>
                </a:srgbClr>
              </a:gs>
              <a:gs pos="100000">
                <a:srgbClr val="000082">
                  <a:alpha val="60392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3" descr="brasao4"/>
          <p:cNvPicPr/>
          <p:nvPr/>
        </p:nvPicPr>
        <p:blipFill>
          <a:blip r:embed="rId1"/>
          <a:stretch/>
        </p:blipFill>
        <p:spPr>
          <a:xfrm>
            <a:off x="216000" y="185760"/>
            <a:ext cx="900000" cy="11556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179280" y="1437120"/>
            <a:ext cx="8682120" cy="45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PRONTO SOCORRO (32.000 atendimentos/mê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Adulto – 76% atendime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Infantil/GO – 24% atendime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AMBULATÓRIO DE ESPECIA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Nº Especialidades Médicas: 37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Nº Consultas/mês: 13.00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Nº Procedimentos/mês: 8.00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Agenda eletrônica integrada com Coordenadoria Municip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Agendamento pós-alta PSA/ PSI/PSGO/U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71280" y="81000"/>
            <a:ext cx="907272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REPÚBLICA FEDERATIVA DO BRASI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SECRETARIA DE ESTADO DE SAÚDE DA CIDADE DE SÃO PAU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COORDENADORIA DE SERVIÇO DE SAÚ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CONJUNTO HOSPITALAR DO MANDAQ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6" descr=""/>
          <p:cNvPicPr/>
          <p:nvPr/>
        </p:nvPicPr>
        <p:blipFill>
          <a:blip r:embed="rId2"/>
          <a:stretch/>
        </p:blipFill>
        <p:spPr>
          <a:xfrm>
            <a:off x="8317080" y="189000"/>
            <a:ext cx="6188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47ff">
                  <a:alpha val="60392"/>
                </a:srgbClr>
              </a:gs>
              <a:gs pos="100000">
                <a:srgbClr val="000082">
                  <a:alpha val="60392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3" descr="brasao4"/>
          <p:cNvPicPr/>
          <p:nvPr/>
        </p:nvPicPr>
        <p:blipFill>
          <a:blip r:embed="rId1"/>
          <a:stretch/>
        </p:blipFill>
        <p:spPr>
          <a:xfrm>
            <a:off x="216000" y="185760"/>
            <a:ext cx="900000" cy="11556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179280" y="1341000"/>
            <a:ext cx="7201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 Narrow"/>
              </a:rPr>
              <a:t>REFERÊNCIA P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01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Coordenadoria Regional de Saúde Municip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85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U.B.S. (Unidade Básica de Saúd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01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A.M.E. (Ambulatório Médico de Especialidad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05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A.M.A. (Assistência Médica Ambulatoria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03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Pronto Socorr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07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Hospitai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01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P.A.I. (Polo de Atenção Intensiva à Saúde Menta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01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C.R.I. (Centro de Referência do Idos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71280" y="81000"/>
            <a:ext cx="907272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REPÚBLICA FEDERATIVA DO BRASI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SECRETARIA DE ESTADO DE SAÚDE DA CIDADE DE SÃO PAU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COORDENADORIA DE SERVIÇO DE SAÚ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CONJUNTO HOSPITALAR DO MANDAQ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8" descr=""/>
          <p:cNvPicPr/>
          <p:nvPr/>
        </p:nvPicPr>
        <p:blipFill>
          <a:blip r:embed="rId2"/>
          <a:stretch/>
        </p:blipFill>
        <p:spPr>
          <a:xfrm>
            <a:off x="8317080" y="189000"/>
            <a:ext cx="6188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47ff">
                  <a:alpha val="60392"/>
                </a:srgbClr>
              </a:gs>
              <a:gs pos="100000">
                <a:srgbClr val="000082">
                  <a:alpha val="60392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3" descr="brasao4"/>
          <p:cNvPicPr/>
          <p:nvPr/>
        </p:nvPicPr>
        <p:blipFill>
          <a:blip r:embed="rId1"/>
          <a:stretch/>
        </p:blipFill>
        <p:spPr>
          <a:xfrm>
            <a:off x="216000" y="185760"/>
            <a:ext cx="900000" cy="11556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179280" y="1484280"/>
            <a:ext cx="871380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 Narrow"/>
              </a:rPr>
              <a:t>DISPOSITIVOS DA PNH NO C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Ouvidori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Voluntariad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Visita Abert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Acolhimento e Classificação de Risc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Visita Técnica Multiprofissional - (Clínica Ampliad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Programa Familiar Participante - (Processo Terapêutico Singula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Atendimento Humanizado no Ambulatóri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Gestão Participativ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Redes de Produção de saú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71280" y="81000"/>
            <a:ext cx="907272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REPÚBLICA FEDERATIVA DO BRASI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SECRETARIA DE ESTADO DE SAÚDE DA CIDADE DE SÃO PAU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COORDENADORIA DE SERVIÇO DE SAÚ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CONJUNTO HOSPITALAR DO MANDAQ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3" descr=""/>
          <p:cNvPicPr/>
          <p:nvPr/>
        </p:nvPicPr>
        <p:blipFill>
          <a:blip r:embed="rId2"/>
          <a:stretch/>
        </p:blipFill>
        <p:spPr>
          <a:xfrm>
            <a:off x="8317080" y="189000"/>
            <a:ext cx="6188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47ff">
                  <a:alpha val="60392"/>
                </a:srgbClr>
              </a:gs>
              <a:gs pos="100000">
                <a:srgbClr val="000082">
                  <a:alpha val="60392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3" descr="brasao4"/>
          <p:cNvPicPr/>
          <p:nvPr/>
        </p:nvPicPr>
        <p:blipFill>
          <a:blip r:embed="rId1"/>
          <a:stretch/>
        </p:blipFill>
        <p:spPr>
          <a:xfrm>
            <a:off x="216000" y="185760"/>
            <a:ext cx="900000" cy="11556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3"/>
          <p:cNvSpPr/>
          <p:nvPr/>
        </p:nvSpPr>
        <p:spPr>
          <a:xfrm>
            <a:off x="71280" y="81000"/>
            <a:ext cx="907272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REPÚBLICA FEDERATIVA DO BRASI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SECRETARIA DE ESTADO DE SAÚDE DA CIDADE DE SÃO PAU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COORDENADORIA DE SERVIÇO DE SAÚ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CONJUNTO HOSPITALAR DO MANDAQ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5" descr=""/>
          <p:cNvPicPr/>
          <p:nvPr/>
        </p:nvPicPr>
        <p:blipFill>
          <a:blip r:embed="rId2"/>
          <a:stretch/>
        </p:blipFill>
        <p:spPr>
          <a:xfrm>
            <a:off x="8317080" y="189000"/>
            <a:ext cx="618840" cy="792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6"/>
          <p:cNvSpPr/>
          <p:nvPr/>
        </p:nvSpPr>
        <p:spPr>
          <a:xfrm>
            <a:off x="181080" y="1337760"/>
            <a:ext cx="871200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 Narrow"/>
              </a:rPr>
              <a:t>DIFICULDADES PARA IMPLANTAÇÃO DOS DISPOSI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Cultura Organizacion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Desconhecimento do SUS e PN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Objetivos institucionais para garantir a tríade 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(usuário/gestor/servido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Conscientização do trabalho e funções clar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Grupo no contexto hospitalar – pertencimento –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homogeneid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47ff">
                  <a:alpha val="60392"/>
                </a:srgbClr>
              </a:gs>
              <a:gs pos="100000">
                <a:srgbClr val="000082">
                  <a:alpha val="60392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3" descr="brasao4"/>
          <p:cNvPicPr/>
          <p:nvPr/>
        </p:nvPicPr>
        <p:blipFill>
          <a:blip r:embed="rId1"/>
          <a:stretch/>
        </p:blipFill>
        <p:spPr>
          <a:xfrm>
            <a:off x="216000" y="185760"/>
            <a:ext cx="900000" cy="11556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179280" y="1348920"/>
            <a:ext cx="6840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 Narrow"/>
              </a:rPr>
              <a:t>TRABALHO EM EQUI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Acrescenta conheciment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Divide ansiedad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Favorece o surgimento de soluçõ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Visão integral do pacien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Beneficia a qualidade de vida do pac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71280" y="81000"/>
            <a:ext cx="907272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REPÚBLICA FEDERATIVA DO BRASI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SECRETARIA DE ESTADO DE SAÚDE DA CIDADE DE SÃO PAU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COORDENADORIA DE SERVIÇO DE SAÚ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CONJUNTO HOSPITALAR DO MANDAQ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2"/>
          <a:stretch/>
        </p:blipFill>
        <p:spPr>
          <a:xfrm>
            <a:off x="8317080" y="189000"/>
            <a:ext cx="6188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47ff">
                  <a:alpha val="60392"/>
                </a:srgbClr>
              </a:gs>
              <a:gs pos="100000">
                <a:srgbClr val="000082">
                  <a:alpha val="60392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33" descr="brasao4"/>
          <p:cNvPicPr/>
          <p:nvPr/>
        </p:nvPicPr>
        <p:blipFill>
          <a:blip r:embed="rId1"/>
          <a:stretch/>
        </p:blipFill>
        <p:spPr>
          <a:xfrm>
            <a:off x="216000" y="185760"/>
            <a:ext cx="900000" cy="11556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/>
          <p:cNvSpPr/>
          <p:nvPr/>
        </p:nvSpPr>
        <p:spPr>
          <a:xfrm>
            <a:off x="179280" y="1338840"/>
            <a:ext cx="896472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 Narrow"/>
              </a:rPr>
              <a:t>ESCRITÓRIO DA QUALIDADE E HUMANIZAÇÃO</a:t>
            </a: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Direcionador das ações e do controle da Qualidade Hospitala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Facilitador da Integração entre as diversas equipes profissionai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Articulador dos dispositivos de Humanização implantados no hospit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Referência para cursos, aprimoramentos, congressos, seminár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71280" y="81000"/>
            <a:ext cx="907272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REPÚBLICA FEDERATIVA DO BRASI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SECRETARIA DE ESTADO DE SAÚDE DA CIDADE DE SÃO PAU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COORDENADORIA DE SERVIÇO DE SAÚ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CONJUNTO HOSPITALAR DO MANDAQ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3" descr=""/>
          <p:cNvPicPr/>
          <p:nvPr/>
        </p:nvPicPr>
        <p:blipFill>
          <a:blip r:embed="rId2"/>
          <a:stretch/>
        </p:blipFill>
        <p:spPr>
          <a:xfrm>
            <a:off x="8317080" y="189000"/>
            <a:ext cx="6188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4T15:46:06Z</dcterms:created>
  <dc:creator>cont-qualidade</dc:creator>
  <dc:description/>
  <dc:language>en-US</dc:language>
  <cp:lastModifiedBy>Quality</cp:lastModifiedBy>
  <dcterms:modified xsi:type="dcterms:W3CDTF">2010-07-30T15:03:48Z</dcterms:modified>
  <cp:revision>72</cp:revision>
  <dc:subject/>
  <dc:title>Apresentação do PowerPoint</dc:title>
</cp:coreProperties>
</file>