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5E1-B2D1-4E26-8E00-D19947F7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73A-495D-4F59-91F8-258990B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D4A-7645-49C9-8F07-51BD81F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EE6-AEF9-4EA1-A4E2-8636F075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47D-B787-4D15-8378-7454F50B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CC9-AFB7-45C3-9B12-AC0A61F3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7F5-2A70-45C2-9DE2-732F19F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FAE-F6B6-4C58-B0F6-2F44A28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307-3109-49F5-AF4B-243B294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90B-7115-4639-B909-F22DEEC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B8E-75C0-4249-9941-88239E0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2F4-CDBD-4FA2-BBE5-078E3DD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E9E-FBB3-4008-BCC1-488640201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cabreu@saude.sp.gov.br" TargetMode="External"/><Relationship Id="rId2" Type="http://schemas.openxmlformats.org/officeDocument/2006/relationships/hyperlink" Target="http://www.saude.sp.gov.br/" TargetMode="External"/><Relationship Id="rId3" Type="http://schemas.openxmlformats.org/officeDocument/2006/relationships/hyperlink" Target="mailto:humanizasus@saude.gov.br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62520" y="35812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UM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retaria de Estado da Saúde –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ordenadoria de 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Cleusa Abr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umanização"/>
          <p:cNvPicPr/>
          <p:nvPr/>
        </p:nvPicPr>
        <p:blipFill>
          <a:blip r:embed="rId1"/>
          <a:stretch/>
        </p:blipFill>
        <p:spPr>
          <a:xfrm>
            <a:off x="1295280" y="2057400"/>
            <a:ext cx="2041560" cy="29718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umanizar a Atenção e Gestão em saúde do SUS se apresenta como meio para qualificação das práticas de saúde: acesso com acolhimento;atenção integral e equânime com responsabilização e vínculo;valorização dos trabalhadores e usuários com avanço na democratização da gestão e controle social participativ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ina Benevides; Eduardo Pa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umanização como dimensão pública das políticas de          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saúde -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ff3300"/>
                </a:solidFill>
                <a:latin typeface="Calibri"/>
              </a:rPr>
              <a:t>PRINCÍPIOS DA P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alibri"/>
              </a:rPr>
              <a:t>Inseparabilidade entre atenção e gestão:</a:t>
            </a:r>
            <a:r>
              <a:rPr b="1" lang="pt-B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técnicas e a clínica são influenciadas de forma decisiva pelos modos de gestão, pelas definições sobre a organização do trabalho, pelo conjunto de marcações que acabam por definir os meios e processos com os quais o trabalho compõe, interage e depen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alibri"/>
              </a:rPr>
              <a:t>Transversalidade – comunicação/conexão:</a:t>
            </a:r>
            <a:r>
              <a:rPr b="1" lang="pt-B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m contato para produção do co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alibri"/>
              </a:rPr>
              <a:t>Protagonismo dos sujeitos:</a:t>
            </a:r>
            <a:r>
              <a:rPr b="1" lang="pt-BR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produção de sujeitos, de grupos.  Ampliação da vontade e capacidade de fa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MÉ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alibri"/>
              </a:rPr>
              <a:t>TRÍPLICE INCLUS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FERENTES SUJEITOS     ESPAÇOS COL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COLETIVOS e MOVIMENTOS SOCIAI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MENTO DE 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produção de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STÃO DE CONF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352680"/>
            <a:ext cx="609840" cy="762120"/>
          </a:xfrm>
          <a:prstGeom prst="downArrow">
            <a:avLst>
              <a:gd name="adj1" fmla="val 50000"/>
              <a:gd name="adj2" fmla="val 31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IRETRIZ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alibri"/>
              </a:rPr>
              <a:t>ORIENT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alibri"/>
              </a:rPr>
              <a:t>ÉTICO-POL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2514600"/>
            <a:ext cx="609480" cy="1066680"/>
          </a:xfrm>
          <a:prstGeom prst="downArrow">
            <a:avLst>
              <a:gd name="adj1" fmla="val 50000"/>
              <a:gd name="adj2" fmla="val 437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Acolh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Co-gest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Gestão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Clínica ampl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Valorização do trabalho e do trabalh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Defesa dos direitos dos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umanização"/>
          <p:cNvPicPr/>
          <p:nvPr/>
        </p:nvPicPr>
        <p:blipFill>
          <a:blip r:embed="rId1"/>
          <a:stretch/>
        </p:blipFill>
        <p:spPr>
          <a:xfrm>
            <a:off x="8077320" y="5410080"/>
            <a:ext cx="78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RET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tabelecem rumos para criação/experimentação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S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ranjos de trabalho que alterem a dinâmica da organização do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rução de novas realidades institucionais,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vos modos de gerir e cui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895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S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UPO DE TRABALHO DE HUMANIZAÇÃO (G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ÂMARA TÉCNICA DE HUMANIZAÇÃO (CT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LEGIADO GESTOR (sistemas e serviços de saú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TRATOS DE GEST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VID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SITA ABERTA - DIREITO A ACOMPANH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A DE FORMAÇÃO EM SAÚDE DO TRABALHADOR (PFST) E Comunidade Ampliada Pesquisa (CA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S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QUIPE DE REFER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POIO MATR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TOS CO-GERIDOS DE AMBIÊN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COLHIMENTO COM CLASSIFICAÇÃO DE RISCO (ACC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TO TERAPÊUTICO SINGULAR (PTS) E PROJETO DE SAÚDE COLE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- S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         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S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ção de sujeitos mais livres, autônomos, criativos e co-responsá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paços de formação de compromisso e de solidariedade entre as pesso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paços de trocas afetivas e simból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paço de produção de excelência ética e técnica na saú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aúde como Direito do Ser Humano: Desafios enfrentados pelos profissionais de saúde em diferentes realidad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 Conferência Enfermagem e obstetrícia            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                                         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ho d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- SP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umanização se apresenta para nós como estratégia de interferência no processo de produção de saúde levando em conta que sujeitos, quando mobilizados são capazes de transformar realidades transformando-se a si próprios neste mesmo proces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ina Benevides -Eduardo Pa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Política de Humanização da 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Departamentos Regionais de Saúde - D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Hosp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pt-BR" sz="3200" spc="-1" strike="noStrike">
                <a:solidFill>
                  <a:srgbClr val="3333cc"/>
                </a:solidFill>
                <a:latin typeface="Arial"/>
              </a:rPr>
              <a:t>Conjunto Hospitalar do Mandaq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umanização"/>
          <p:cNvPicPr/>
          <p:nvPr/>
        </p:nvPicPr>
        <p:blipFill>
          <a:blip r:embed="rId1"/>
          <a:stretch/>
        </p:blipFill>
        <p:spPr>
          <a:xfrm>
            <a:off x="8077320" y="5410080"/>
            <a:ext cx="78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- S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SES/São Pa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ORDENADORIA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011- 3066-8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66"/>
                </a:solidFill>
                <a:uFillTx/>
                <a:latin typeface="Calibri"/>
                <a:hlinkClick r:id="rId1"/>
              </a:rPr>
              <a:t>cabreu@saude.sp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66"/>
                </a:solidFill>
                <a:uFillTx/>
                <a:latin typeface="Calibri"/>
                <a:hlinkClick r:id="rId2"/>
              </a:rPr>
              <a:t>www.saude.sp.gov.br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/humanizaca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66"/>
                </a:solidFill>
                <a:uFillTx/>
                <a:latin typeface="Calibri"/>
                <a:hlinkClick r:id="rId3"/>
              </a:rPr>
              <a:t>humanizasus@saude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www.saude.gov.br/humaniza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dehumanizasus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umanização"/>
          <p:cNvPicPr/>
          <p:nvPr/>
        </p:nvPicPr>
        <p:blipFill>
          <a:blip r:embed="rId4"/>
          <a:stretch/>
        </p:blipFill>
        <p:spPr>
          <a:xfrm>
            <a:off x="7924680" y="5334120"/>
            <a:ext cx="890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80773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Calibri"/>
              </a:rPr>
              <a:t>SISTEMA ÚNICO DE SA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É uma política republicana, construída a partir de amplo debate e acúmulo de forças na sociedade brasil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É uma reforma ético-político-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Um marco na direção do aprimoramento de nossa experiência civilizatória”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(Arouca, 2000, 11a. Conf. ), pela defesa de valores como a democracia direta, controle social, universalização de direitos, visão ampliada de saúde, reconhecimento do cidadão como sujeito e não apenas como simples cliente, etc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Calibri"/>
              </a:rPr>
              <a:t>é uma conquista histórica rumo à garantia de direitos sociais inaugurando um novo modo de ação na esfera pública, uma forma pactuada de produção de polí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“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OBRA ABER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Calibri"/>
              </a:rPr>
              <a:t>Resulta de consensos míninos e provisórios atualizados no processo de cotejamento entre interesses de sujeitos em espaços público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809880"/>
            <a:ext cx="7142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umanização"/>
          <p:cNvPicPr/>
          <p:nvPr/>
        </p:nvPicPr>
        <p:blipFill>
          <a:blip r:embed="rId1"/>
          <a:stretch/>
        </p:blipFill>
        <p:spPr>
          <a:xfrm>
            <a:off x="8210520" y="5562720"/>
            <a:ext cx="681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incípios do 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mpreensão de que saúde é produção social e histórica, um bem socialmente produzido.  A saúde é um direito inalienável de cada cidadão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nivers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arantia de acess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quitativ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erviços e práticas integrais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gr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articipação cidad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umanização"/>
          <p:cNvPicPr/>
          <p:nvPr/>
        </p:nvPicPr>
        <p:blipFill>
          <a:blip r:embed="rId1"/>
          <a:stretch/>
        </p:blipFill>
        <p:spPr>
          <a:xfrm>
            <a:off x="8077320" y="5410080"/>
            <a:ext cx="78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VANÇOS DO SUS - em 20 anos o S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organizou a rede de atenção, solidificando-a a partir do fortalecimento de estratégias de atenção bá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pliou o acesso da população aos serviços de saú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ou o território nacional por meio de redes de atenção municipalizadas e regionaliz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pliou a quantidade, a diversidade e a qualidade dos trabalhadores da saúde, avançando na organização do trabalho em equ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alibri"/>
              </a:rPr>
              <a:t>Dificuldades do 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Fragmentação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Gestão altamente verticalizada x Co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Baixa participação de trabalhadores e usu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Lógica hospitalocêntrica / médico c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Poucas equipes multiprofiss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Pouco investimento em Educação Permanente para os trabalh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umanização"/>
          <p:cNvPicPr/>
          <p:nvPr/>
        </p:nvPicPr>
        <p:blipFill>
          <a:blip r:embed="rId1"/>
          <a:stretch/>
        </p:blipFill>
        <p:spPr>
          <a:xfrm>
            <a:off x="8077320" y="5410080"/>
            <a:ext cx="78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OLÍTICA NACIONAL DE HUMAN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ada em 200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lo M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ctuada na Comissão Intergestores Tripartite e no Conselho Nacional de Saúde; vinculada à SAS/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erge da experimentação prática da política pública de saúde em implementação no Bra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NH parte e aposta em um “SUS que dá cer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manização"/>
          <p:cNvPicPr/>
          <p:nvPr/>
        </p:nvPicPr>
        <p:blipFill>
          <a:blip r:embed="rId1"/>
          <a:stretch/>
        </p:blipFill>
        <p:spPr>
          <a:xfrm>
            <a:off x="8077320" y="5410080"/>
            <a:ext cx="78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UMANIZAÇÃ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                         Secretaria de Estado da Saúde – SP - CR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OLÍTICA NACIONAL DE HUMA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é uma produção do SUS - emerge da experimentação/avaliação da política pública de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libri"/>
              </a:rPr>
              <a:t>NÃO SE TRATA DE HUMANIZAR O HUMANO, MAS ENFRENTAR E LIDAR COM RELAÇÕES DE PODER, TRABALHO E AF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alibri"/>
              </a:rPr>
              <a:t>PRODUTORAS DE PRÁTICAS DESUMAN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441972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umanização"/>
          <p:cNvPicPr/>
          <p:nvPr/>
        </p:nvPicPr>
        <p:blipFill>
          <a:blip r:embed="rId1"/>
          <a:stretch/>
        </p:blipFill>
        <p:spPr>
          <a:xfrm>
            <a:off x="8105760" y="5410080"/>
            <a:ext cx="785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breu</cp:lastModifiedBy>
  <dcterms:modified xsi:type="dcterms:W3CDTF">2010-07-27T18:23:18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